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9654-2752-4B0C-B90D-8C6A5BD3E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2365-9B6C-4519-B467-85B46C57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B416-9367-4FA7-9532-84CC5C3B6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A24D-0E57-40AD-BB5C-816B7DB10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073A-F40B-4FFE-8C40-98675F5E7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9585-CE0F-4553-8F47-5D066B57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18B93-FC8D-4D63-86CE-0598D84B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5B58-E540-4A5E-83F8-949C9E9B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C0F6-2B61-4A86-B073-EB268E6A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3BAE-CF49-4627-94F3-B994A63A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BEFB-CC79-4F1E-A519-12E79FBB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573E-099D-46CC-9761-DDD69898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59F2-07BB-4BC6-A025-DEDFC339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3569-8C08-4CA8-A022-421B419C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DF30-129F-4500-804D-0E453AC5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F526-9A9A-425C-81FA-31103CCD3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ED71-0EA0-4563-93D4-81C644B71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15BE-7C2F-4A70-A517-452F74A0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B18C-2726-40A7-80D2-DB951287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8B0F-8D09-4A02-8E67-84DC3730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BEC5-99A0-44C7-84A7-38E66A05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FB78-CD7C-4B03-8B88-53F3C8FD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02C6-39B5-45A7-9DC9-62FC333B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1359-9A9D-4125-99B9-BD05D542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0CFC-EECC-4F37-A81B-4AA8452AB6B8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B465-805E-47AD-BB96-7EB90372547C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1616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071360" y="4142880"/>
            <a:ext cx="670068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D:\окр. мир 4 класс\Новая папка\26.jpg"/>
          <p:cNvPicPr/>
          <p:nvPr/>
        </p:nvPicPr>
        <p:blipFill>
          <a:blip r:embed="rId1"/>
          <a:stretch/>
        </p:blipFill>
        <p:spPr>
          <a:xfrm>
            <a:off x="3995640" y="0"/>
            <a:ext cx="514836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15" name=""/>
          <p:cNvSpPr txBox="1"/>
          <p:nvPr/>
        </p:nvSpPr>
        <p:spPr>
          <a:xfrm>
            <a:off x="0" y="-360"/>
            <a:ext cx="40384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лупившихся цыплят отправляют в цех выращивания. Оттуда уже подросших кур переводят в цех клеточных несушек – главный цех птицефабрики. Из него в магазины поступают сотни миллионов яиц в год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о птицефабрики строят возле больших городов, чтобы круглый год снабжать население яйцами и мясом. Конечно, домашних птиц разводят не только на больших птицефабриках, но и на менее крупных птицефермах и на приусадебных участк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едением рыбы в прудах занимаются специальные рыбоведческие хозяйства. Основные прудовые рыбы – это сазан, карп, белый амур, толстолобик. Сазан, белый амур и толстолобик встречаются в природе и в диком виде. А вот карп – это одомашненная форма сазан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2" descr="D:\окр. мир 4 класс\Новая папка\1303991667_karpy_00.jpg"/>
          <p:cNvPicPr/>
          <p:nvPr/>
        </p:nvPicPr>
        <p:blipFill>
          <a:blip r:embed="rId2"/>
          <a:stretch/>
        </p:blipFill>
        <p:spPr>
          <a:xfrm>
            <a:off x="4427640" y="1484280"/>
            <a:ext cx="4716360" cy="5229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леком прошлом люди ходили за медом на охоту! В лесах тогда было очень много диких пчел. Они жили в дуплах деревьев. Найдя пчелиные жилища, люди их полностью разоряли, пчелиная семья погибала. Со временем люди стали забирать только часть меда, чтобы семья крылатых тружениц оставалась жит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ем люди стали сами выдалбливать в стволах деревьев дупла для пчел. Так зародилось пчеловодство. А потом появились и пасек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2" descr="D:\окр. мир 4 класс\Новая папка\454a47e5fc-300x201.jpg"/>
          <p:cNvPicPr/>
          <p:nvPr/>
        </p:nvPicPr>
        <p:blipFill>
          <a:blip r:embed="rId2"/>
          <a:stretch/>
        </p:blipFill>
        <p:spPr>
          <a:xfrm>
            <a:off x="4643280" y="1557360"/>
            <a:ext cx="4105440" cy="4608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1"/>
          <a:stretch/>
        </p:blipFill>
        <p:spPr>
          <a:xfrm>
            <a:off x="444600" y="182520"/>
            <a:ext cx="8375400" cy="2389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57200" y="2708280"/>
            <a:ext cx="41148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8320" y="2708280"/>
            <a:ext cx="40384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3" descr="D:\окр. мир 4 класс\Новая папка\ujmzml.jpg"/>
          <p:cNvPicPr/>
          <p:nvPr/>
        </p:nvPicPr>
        <p:blipFill>
          <a:blip r:embed="rId2"/>
          <a:stretch/>
        </p:blipFill>
        <p:spPr>
          <a:xfrm>
            <a:off x="468360" y="2708280"/>
            <a:ext cx="8280360" cy="4149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1554120"/>
            <a:ext cx="8686800" cy="8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5" descr=""/>
          <p:cNvPicPr/>
          <p:nvPr/>
        </p:nvPicPr>
        <p:blipFill>
          <a:blip r:embed="rId1"/>
          <a:stretch/>
        </p:blipFill>
        <p:spPr>
          <a:xfrm>
            <a:off x="237960" y="176040"/>
            <a:ext cx="8624880" cy="13179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304560" y="1412640"/>
            <a:ext cx="419076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ие кур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ели жесткое мясо, откладывали по 5-6 яиц в год. Людям удалось вывести породы кур с нежным, вкусным мясом; яйценоских кур, которые откладывают по 300 и даже больше яиц в год. Люди изменяли и других одомашненных  животных. Выведение новых пород домашних животных продолжается и сейчас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7960" y="2204640"/>
            <a:ext cx="434340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2" descr="D:\окр. мир 4 класс\Новая папка\00426155.jpg"/>
          <p:cNvPicPr/>
          <p:nvPr/>
        </p:nvPicPr>
        <p:blipFill>
          <a:blip r:embed="rId2"/>
          <a:stretch/>
        </p:blipFill>
        <p:spPr>
          <a:xfrm>
            <a:off x="4500720" y="1628640"/>
            <a:ext cx="4643280" cy="5229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4" descr=""/>
          <p:cNvPicPr/>
          <p:nvPr/>
        </p:nvPicPr>
        <p:blipFill>
          <a:blip r:embed="rId1"/>
          <a:stretch/>
        </p:blipFill>
        <p:spPr>
          <a:xfrm>
            <a:off x="298440" y="12600"/>
            <a:ext cx="8699400" cy="1109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едение крупного и мелкого рогатого ско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новодств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цеводство и д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ждом крае животноводство имеет свои особенности, одних животных разводят больше, других совсем не разводя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1599840"/>
            <a:ext cx="40384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упный рогатый скот –это прежде всего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овы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В нашей стране разводят разные породы этих замечательных животных. Все породы делят на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лочные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ясные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ясомолочные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2" descr="D:\окр. мир 4 класс\Новая папка\wallpaper_9_50161.jpg"/>
          <p:cNvPicPr/>
          <p:nvPr/>
        </p:nvPicPr>
        <p:blipFill>
          <a:blip r:embed="rId2"/>
          <a:stretch/>
        </p:blipFill>
        <p:spPr>
          <a:xfrm>
            <a:off x="250920" y="1557360"/>
            <a:ext cx="4321080" cy="4824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лкий рогатый скот это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ц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з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Очень ценятся породы овец с тонкой шерстью –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нкорунны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ru-RU" sz="1800" spc="-1" strike="noStrike">
                <a:solidFill>
                  <a:srgbClr val="1a1a1b"/>
                </a:solidFill>
                <a:latin typeface="Times New Roman"/>
                <a:ea typeface="Times New Roman"/>
              </a:rPr>
              <a:t>от слова </a:t>
            </a:r>
            <a:r>
              <a:rPr b="1" i="1" lang="ru-RU" sz="1800" spc="-1" strike="noStrike">
                <a:solidFill>
                  <a:srgbClr val="1a1a1b"/>
                </a:solidFill>
                <a:latin typeface="Times New Roman"/>
                <a:ea typeface="Times New Roman"/>
              </a:rPr>
              <a:t>руно</a:t>
            </a:r>
            <a:r>
              <a:rPr b="0" i="1" lang="ru-RU" sz="1800" spc="-1" strike="noStrike">
                <a:solidFill>
                  <a:srgbClr val="1a1a1b"/>
                </a:solidFill>
                <a:latin typeface="Times New Roman"/>
                <a:ea typeface="Times New Roman"/>
              </a:rPr>
              <a:t> – шерсть овцы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 их шерсти на фабриках делают лучшие шерстяные ткани. Стада овец называют отарами. Большие отара пасутся на степных, полупустынных и горных пастбищах. Коз разводят ради питательного молока, шерсти и очень тонкого, мягкого, шелковистого пуха. Из козьего пуха изготовляют платки и другие издел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4" descr="D:\окр. мир 4 класс\Новая папка\2010-11-15_11-25-22_14740730.png"/>
          <p:cNvPicPr/>
          <p:nvPr/>
        </p:nvPicPr>
        <p:blipFill>
          <a:blip r:embed="rId2"/>
          <a:stretch/>
        </p:blipFill>
        <p:spPr>
          <a:xfrm>
            <a:off x="3143160" y="4000680"/>
            <a:ext cx="2940120" cy="2143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иньи совсем не грязнули, они, наоборот, очень чистоплотны. Тот, кто видел, как в жару свинья ложится в грязь, должен знать: она делает это для того, чтобы охладить кожу и избавиться от надоедливых насекомых. Свиней нужно почаще мыть и чистить. Содержать их нужно в чистых помещения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ашей стране более десятка пород свиней. Самая распространенная порода –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упная бела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В Сибири разводят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емеровскую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д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2" descr="D:\окр. мир 4 класс\Новая папка\поросята.jpg"/>
          <p:cNvPicPr/>
          <p:nvPr/>
        </p:nvPicPr>
        <p:blipFill>
          <a:blip r:embed="rId2"/>
          <a:stretch/>
        </p:blipFill>
        <p:spPr>
          <a:xfrm>
            <a:off x="324000" y="1557360"/>
            <a:ext cx="4249440" cy="489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34100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прошлом лошадь была незаменимой помощницей человека. Она помогала крестьянину в поле, когда не было тракторов. Она перевозила людей и грузы, потому что не было автомобилей. Лошадь участвовала и в военных битвах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ременная техника во многих делах заменила лошадь. Во многих, но не во всех. Лошадь по-прежнему необходима лесникам, пастухам, пограничникам. В селе на лошадях удобно перевозить грузы на небольшие расстояния. Немало людей увлекаются конным туризмом и конным спортом. Конечно, люди не перестают восхищаться красотой лошадей. Общаясь с лошадью, человек учится понимать живое, учится доброт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дистых лошадей разводят на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онных заводах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Лошадей большое разнообразие. Их насчитывают свыше 250 пород – от могучих тяжеловозов до миниатюрных пон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2" descr="D:\окр. мир 4 класс\Новая папка\horses0630.jpg"/>
          <p:cNvPicPr/>
          <p:nvPr/>
        </p:nvPicPr>
        <p:blipFill>
          <a:blip r:embed="rId2"/>
          <a:stretch/>
        </p:blipFill>
        <p:spPr>
          <a:xfrm>
            <a:off x="4643280" y="1413000"/>
            <a:ext cx="4392720" cy="5184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076720" y="1600200"/>
            <a:ext cx="3610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ашние кролики произошли от диких. Выведено более 60 пород домашних кроликов. Кроликов разводят ради теплого, красивого меха, легкого пуха и вкусного мяс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держат кроликов в клетках. Кормят кроликов разнообразной пищей. Им дают: зеленую траву, сено, корнеплоды, зерно, картофель, листья капусты, ботву моркови и свёклы.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олики охотно едят многие травы: одуванчик, люцерну, подорожник, клевер, тимофеевку. Нельзя им давать траву, влажную от росы или дождя. От этого кролики могут опасно заболеть. Такую траву надо прежде просушит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2" descr="D:\окр. мир 4 класс\Новая папка\60146-8973c-31184749-.jpg"/>
          <p:cNvPicPr/>
          <p:nvPr/>
        </p:nvPicPr>
        <p:blipFill>
          <a:blip r:embed="rId2"/>
          <a:stretch/>
        </p:blipFill>
        <p:spPr>
          <a:xfrm>
            <a:off x="250920" y="1557360"/>
            <a:ext cx="4681440" cy="5040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304560" y="1125360"/>
            <a:ext cx="419076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ашние птицы – это </a:t>
            </a:r>
            <a:r>
              <a:rPr b="1" i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ы, гуси, утки, индейки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Особенно много разводят кур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7960" y="1125360"/>
            <a:ext cx="434340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крупной птицефабрике в инкубаторы помещают одновременно сотни тысяч яиц. Вентиляторы подают в инкубатор теплый воздух. Специальный механизм время от времени переворачивает яйца, чтобы они равномерно прогревались. Все это необходимо для правильного развития зародыш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4" descr="D:\окр. мир 4 класс\Новая папка\repphoto_3407_3943.jpg"/>
          <p:cNvPicPr/>
          <p:nvPr/>
        </p:nvPicPr>
        <p:blipFill>
          <a:blip r:embed="rId2"/>
          <a:stretch/>
        </p:blipFill>
        <p:spPr>
          <a:xfrm>
            <a:off x="0" y="4076640"/>
            <a:ext cx="4356000" cy="2781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13" name="Picture 5" descr="D:\окр. мир 4 класс\Новая папка\1267212955.jpg"/>
          <p:cNvPicPr/>
          <p:nvPr/>
        </p:nvPicPr>
        <p:blipFill>
          <a:blip r:embed="rId3"/>
          <a:stretch/>
        </p:blipFill>
        <p:spPr>
          <a:xfrm>
            <a:off x="5076720" y="4076640"/>
            <a:ext cx="4067280" cy="2781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14:18:48Z</dcterms:created>
  <dc:creator>Discus</dc:creator>
  <dc:description/>
  <dc:language>en-US</dc:language>
  <cp:lastModifiedBy>Учитель</cp:lastModifiedBy>
  <dcterms:modified xsi:type="dcterms:W3CDTF">2013-05-07T09:49:21Z</dcterms:modified>
  <cp:revision>81</cp:revision>
  <dc:subject/>
  <dc:title>Животноводство в нашем крае</dc:title>
</cp:coreProperties>
</file>