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BDB2-7121-43B4-8FA7-B0E9B9CA6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15D5-8683-4AB0-A4FD-9548F9A71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5CA6-D951-402A-B832-8028CF03F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F883-8B39-470D-B615-9A21AC1A5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BFC5-C9AC-4027-8A14-3C8CDE7A2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2140-B461-4101-9767-DA99D4C1D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3897-ECBF-49A7-BF75-652E470A2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BC18-E5EC-4D94-B4A2-06BE23971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CADC-6FB8-45DA-8BF2-EB9C41104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D954-D007-4828-81C2-029EE4707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B226-B453-4E67-BB95-3F3FB93EF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965F-1985-47F9-9F08-CD8A39EEC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5C0C9-CDA0-4E4F-8A7F-B9DFCDF60E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384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Клетка-основа строения и роста живых организмо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00120" y="3857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7" descr="Рисунок15"/>
          <p:cNvPicPr/>
          <p:nvPr/>
        </p:nvPicPr>
        <p:blipFill>
          <a:blip r:embed="rId1"/>
          <a:stretch/>
        </p:blipFill>
        <p:spPr>
          <a:xfrm>
            <a:off x="730080" y="320760"/>
            <a:ext cx="7683840" cy="5759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се живые организмы состоят из клеток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0" y="1599840"/>
            <a:ext cx="4114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центре клетки – ядро. Ядро – центр жизнедеятельности кле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дро всегда окружено цитоплазмой - бесцветное густое, тягучее образо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итоплазма – внутренняя среда, в которой располагаются все другие части кле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крыта клетка оболоч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3" descr="Рисунок1"/>
          <p:cNvPicPr/>
          <p:nvPr/>
        </p:nvPicPr>
        <p:blipFill>
          <a:blip r:embed="rId1"/>
          <a:stretch/>
        </p:blipFill>
        <p:spPr>
          <a:xfrm>
            <a:off x="468360" y="1628640"/>
            <a:ext cx="3816360" cy="460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Есть клетки, которые можно увидеть невооруженным глаз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1" descr="Рисунок2"/>
          <p:cNvPicPr/>
          <p:nvPr/>
        </p:nvPicPr>
        <p:blipFill>
          <a:blip r:embed="rId1"/>
          <a:stretch/>
        </p:blipFill>
        <p:spPr>
          <a:xfrm>
            <a:off x="457200" y="1887480"/>
            <a:ext cx="4038480" cy="3949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" descr="Рисунок3"/>
          <p:cNvPicPr/>
          <p:nvPr/>
        </p:nvPicPr>
        <p:blipFill>
          <a:blip r:embed="rId2"/>
          <a:stretch/>
        </p:blipFill>
        <p:spPr>
          <a:xfrm>
            <a:off x="5003640" y="1700280"/>
            <a:ext cx="3313440" cy="2016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0" descr="Рисунок4"/>
          <p:cNvPicPr/>
          <p:nvPr/>
        </p:nvPicPr>
        <p:blipFill>
          <a:blip r:embed="rId3"/>
          <a:stretch/>
        </p:blipFill>
        <p:spPr>
          <a:xfrm>
            <a:off x="5003640" y="3933720"/>
            <a:ext cx="3313440" cy="244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летки – основа всех живых организм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4" descr="Рисунок5"/>
          <p:cNvPicPr/>
          <p:nvPr/>
        </p:nvPicPr>
        <p:blipFill>
          <a:blip r:embed="rId1"/>
          <a:stretch/>
        </p:blipFill>
        <p:spPr>
          <a:xfrm>
            <a:off x="5364000" y="3141720"/>
            <a:ext cx="3240360" cy="28623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792936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ть живые организмы, которые состоят из одной клетки. Например – водоросль хлорелла, животное амеб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5" descr="1042X683"/>
          <p:cNvPicPr/>
          <p:nvPr/>
        </p:nvPicPr>
        <p:blipFill>
          <a:blip r:embed="rId2"/>
          <a:stretch/>
        </p:blipFill>
        <p:spPr>
          <a:xfrm>
            <a:off x="826920" y="3141720"/>
            <a:ext cx="4321440" cy="2879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летка – маленький живой организ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194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етка дышит, питается, растет, размножается и умирает. Без кислорода и пищи клетки гибнут. Дыхание и питание обеспечивают рост и деление клет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2" descr="Рисунок8"/>
          <p:cNvPicPr/>
          <p:nvPr/>
        </p:nvPicPr>
        <p:blipFill>
          <a:blip r:embed="rId1"/>
          <a:stretch/>
        </p:blipFill>
        <p:spPr>
          <a:xfrm>
            <a:off x="1547640" y="4132440"/>
            <a:ext cx="576108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етки, имеющие одинаковое строение и собранные вместе образуют тка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148360" y="1773000"/>
            <a:ext cx="296208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Костная клет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1" descr="Рисунок10"/>
          <p:cNvPicPr/>
          <p:nvPr/>
        </p:nvPicPr>
        <p:blipFill>
          <a:blip r:embed="rId1"/>
          <a:stretch/>
        </p:blipFill>
        <p:spPr>
          <a:xfrm>
            <a:off x="684360" y="1557360"/>
            <a:ext cx="4248000" cy="482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Нервная клет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Рисунок11"/>
          <p:cNvPicPr/>
          <p:nvPr/>
        </p:nvPicPr>
        <p:blipFill>
          <a:blip r:embed="rId1"/>
          <a:stretch/>
        </p:blipFill>
        <p:spPr>
          <a:xfrm>
            <a:off x="2124000" y="1557360"/>
            <a:ext cx="4608720" cy="4170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Мышечная клет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Рисунок12"/>
          <p:cNvPicPr/>
          <p:nvPr/>
        </p:nvPicPr>
        <p:blipFill>
          <a:blip r:embed="rId1"/>
          <a:stretch/>
        </p:blipFill>
        <p:spPr>
          <a:xfrm>
            <a:off x="2556000" y="1628640"/>
            <a:ext cx="4103640" cy="446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Клетка эпител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Рисунок13"/>
          <p:cNvPicPr/>
          <p:nvPr/>
        </p:nvPicPr>
        <p:blipFill>
          <a:blip r:embed="rId1"/>
          <a:stretch/>
        </p:blipFill>
        <p:spPr>
          <a:xfrm>
            <a:off x="2928960" y="1600200"/>
            <a:ext cx="3286080" cy="45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3T11:23:50Z</dcterms:created>
  <dc:creator>user</dc:creator>
  <dc:description/>
  <dc:language>en-US</dc:language>
  <cp:lastModifiedBy>Учитель</cp:lastModifiedBy>
  <dcterms:modified xsi:type="dcterms:W3CDTF">2013-05-06T16:44:14Z</dcterms:modified>
  <cp:revision>14</cp:revision>
  <dc:subject/>
  <dc:title>Клетка-основа строения и роста живых организмов</dc:title>
</cp:coreProperties>
</file>