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B80-1A82-46A3-A5B4-09BAEAB0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39A-21A1-4FFB-8C0D-2E1B9A7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470-4557-4DC0-8897-ADE5B10E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2AC-BCC9-45CD-B250-3C04D1CD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F613-AC59-48BE-A2F1-2D7373DB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C338-73A5-4A8B-8ED4-83AF2F4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01DF-B8C1-488A-99BB-1FA4DBA7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B81B-D547-4D23-A713-85835179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6A6B-30C5-4BC0-9728-F58D4E9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9CF-C831-4C04-9987-5C33F759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BE3C-A320-4550-8073-6994894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A94-2F86-4533-8059-65EEE7B0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4EA8-492C-44DC-AE0D-C64DDE8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91B7-F6CC-4BD5-9C69-9D5AE9FE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5E54-B418-4A03-954A-01E43DF2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8E0F-25AA-4BCC-85B2-8936BA56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AC2-376A-4026-98B2-76F2040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4C9-F594-4BA4-976B-840315F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E6A-27C9-4443-8D4C-C804CE1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BEC-7B1B-4EB6-9A24-9909989B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FAA-6B87-44AC-9D8B-74F647E7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5FA-BEBE-4383-AC78-E5F25D26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ADF9-7EEA-4464-BE8E-332D3ED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9A4-171F-443D-897E-FD9A4AA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2238-4A38-45FE-9C0C-D8EEFF1A362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E78B-41BE-4FA4-AF2C-A4C4CAC1F3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1616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71360" y="4142880"/>
            <a:ext cx="670068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D:\окр. мир 4 класс\Новая папка\26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"/>
          <p:cNvSpPr txBox="1"/>
          <p:nvPr/>
        </p:nvSpPr>
        <p:spPr>
          <a:xfrm>
            <a:off x="0" y="-36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упившихся цыплят отправляют в цех выращивания. Оттуда уже подросших кур переводят в цех клеточных несушек – главный цех птицефабрики. Из него в магазины поступают сотни миллионов яиц в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птицефабрики строят возле больших городов, чтобы круглый год снабжать население яйцами и мясом. Конечно, домашних птиц разводят не только на больших птицефабриках, но и на менее крупных птицефермах и на приусадебных участ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м рыбы в прудах занимаются специальные рыбоведческие хозяйства. Основные прудовые рыбы – это сазан, карп, белый амур, толстолобик. Сазан, белый амур и толстолобик встречаются в природе и в диком виде. А вот карп – это одомашненная форма саза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2" descr="D:\окр. мир 4 класс\Новая папка\1303991667_karpy_00.jpg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еком прошлом люди ходили за медом на охоту! В лесах тогда было очень много диких пчел. Они жили в дуплах деревьев. Найдя пчелиные жилища, люди их полностью разоряли, пчелиная семья погибала. Со временем люди стали забирать только часть меда, чтобы семья крылатых тружениц оставалась жи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люди стали сами выдалбливать в стволах деревьев дупла для пчел. Так зародилось пчеловодство. А потом появились и пасе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D:\окр. мир 4 класс\Новая папка\454a47e5fc-300x201.jpg"/>
          <p:cNvPicPr/>
          <p:nvPr/>
        </p:nvPicPr>
        <p:blipFill>
          <a:blip r:embed="rId2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44600" y="182520"/>
            <a:ext cx="837540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2708280"/>
            <a:ext cx="4114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708280"/>
            <a:ext cx="4038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D:\окр. мир 4 класс\Новая папка\ujmzml.jpg"/>
          <p:cNvPicPr/>
          <p:nvPr/>
        </p:nvPicPr>
        <p:blipFill>
          <a:blip r:embed="rId2"/>
          <a:stretch/>
        </p:blipFill>
        <p:spPr>
          <a:xfrm>
            <a:off x="468360" y="2708280"/>
            <a:ext cx="8280360" cy="414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554120"/>
            <a:ext cx="86868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5" descr=""/>
          <p:cNvPicPr/>
          <p:nvPr/>
        </p:nvPicPr>
        <p:blipFill>
          <a:blip r:embed="rId1"/>
          <a:stretch/>
        </p:blipFill>
        <p:spPr>
          <a:xfrm>
            <a:off x="237960" y="176040"/>
            <a:ext cx="8624880" cy="1317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04560" y="1412640"/>
            <a:ext cx="419076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ие к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ли жесткое мясо, откладывали по 5-6 яиц в год. Людям удалось вывести породы кур с нежным, вкусным мясом; яйценоских кур, которые откладывают по 300 и даже больше яиц в год. Люди изменяли и других одомашненных  животных. Выведение новых пород домашних животных продолжается и сейча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2204640"/>
            <a:ext cx="43434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окр. мир 4 класс\Новая папка\00426155.jpg"/>
          <p:cNvPicPr/>
          <p:nvPr/>
        </p:nvPicPr>
        <p:blipFill>
          <a:blip r:embed="rId2"/>
          <a:stretch/>
        </p:blipFill>
        <p:spPr>
          <a:xfrm>
            <a:off x="4500720" y="1628640"/>
            <a:ext cx="4643280" cy="5229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4" descr=""/>
          <p:cNvPicPr/>
          <p:nvPr/>
        </p:nvPicPr>
        <p:blipFill>
          <a:blip r:embed="rId1"/>
          <a:stretch/>
        </p:blipFill>
        <p:spPr>
          <a:xfrm>
            <a:off x="298440" y="12600"/>
            <a:ext cx="8699400" cy="1109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ение крупного и мелкого рогатого ск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о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водство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крае животноводство имеет свои особенности, одних животных разводят больше, других совсем не разводя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599840"/>
            <a:ext cx="40384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ый рогатый скот –это прежде всего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вы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нашей стране разводят разные породы этих замечательных животных. Все породы делят на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сомолочные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D:\окр. мир 4 класс\Новая папка\wallpaper_9_50161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482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кий рогатый скот эт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ц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з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чень ценятся породы овец с тонкой шерстью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корун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от слова </a:t>
            </a:r>
            <a:r>
              <a:rPr b="1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руно</a:t>
            </a:r>
            <a:r>
              <a:rPr b="0" i="1" lang="ru-RU" sz="1800" spc="-1" strike="noStrike">
                <a:solidFill>
                  <a:srgbClr val="1a1a1b"/>
                </a:solidFill>
                <a:latin typeface="Times New Roman"/>
                <a:ea typeface="Times New Roman"/>
              </a:rPr>
              <a:t> – шерсть овцы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их шерсти на фабриках делают лучшие шерстяные ткани. Стада овец называют отарами. Большие отара пасутся на степных, полупустынных и горных пастбищах. Коз разводят ради питательного молока, шерсти и очень тонкого, мягкого, шелковистого пуха. Из козьего пуха изготовляют платки и другие издел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D:\окр. мир 4 класс\Новая папка\2010-11-15_11-25-22_14740730.png"/>
          <p:cNvPicPr/>
          <p:nvPr/>
        </p:nvPicPr>
        <p:blipFill>
          <a:blip r:embed="rId2"/>
          <a:stretch/>
        </p:blipFill>
        <p:spPr>
          <a:xfrm>
            <a:off x="3143160" y="4000680"/>
            <a:ext cx="294012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ньи совсем не грязнули, они, наоборот, очень чистоплотны. Тот, кто видел, как в жару свинья ложится в грязь, должен знать: она делает это для того, чтобы охладить кожу и избавиться от надоедливых насекомых. Свиней нужно почаще мыть и чистить. Содержать их нужно в чистых помещен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й стране более десятка пород свиней. Самая распространенная порода –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пная бел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 Сибири разводят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меровскую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2" descr="D:\окр. мир 4 класс\Новая папка\поросята.jpg"/>
          <p:cNvPicPr/>
          <p:nvPr/>
        </p:nvPicPr>
        <p:blipFill>
          <a:blip r:embed="rId2"/>
          <a:stretch/>
        </p:blipFill>
        <p:spPr>
          <a:xfrm>
            <a:off x="324000" y="1557360"/>
            <a:ext cx="4249440" cy="489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ошлом лошадь была незаменимой помощницей человека. Она помогала крестьянину в поле, когда не было тракторов. Она перевозила людей и грузы, потому что не было автомобилей. Лошадь участвовала и в военных битвах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ременная техника во многих делах заменила лошадь. Во многих, но не во всех. Лошадь по-прежнему необходима лесникам, пастухам, пограничникам. В селе на лошадях удобно перевозить грузы на небольшие расстояния. Немало людей увлекаются конным туризмом и конным спортом. Конечно, люди не перестают восхищаться красотой лошадей. Общаясь с лошадью, человек учится понимать живое, учится добр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стых лошадей разводят на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ных заводах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Лошадей большое разнообразие. Их насчитывают свыше 250 пород – от могучих тяжеловозов до миниатюрных пон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D:\окр. мир 4 класс\Новая папка\horses0630.jpg"/>
          <p:cNvPicPr/>
          <p:nvPr/>
        </p:nvPicPr>
        <p:blipFill>
          <a:blip r:embed="rId2"/>
          <a:stretch/>
        </p:blipFill>
        <p:spPr>
          <a:xfrm>
            <a:off x="4643280" y="1413000"/>
            <a:ext cx="4392720" cy="51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1600200"/>
            <a:ext cx="3610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кролики произошли от диких. Выведено более 60 пород домашних кроликов. Кроликов разводят ради теплого, красивого меха, легкого пуха и вкусного мяс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т кроликов в клетках. Кормят кроликов разнообразной пищей. Им дают: зеленую траву, сено, корнеплоды, зерно, картофель, листья капусты, ботву моркови и свёклы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лики охотно едят многие травы: одуванчик, люцерну, подорожник, клевер, тимофеевку. Нельзя им давать траву, влажную от росы или дождя. От этого кролики могут опасно заболеть. Такую траву надо прежде просуши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D:\окр. мир 4 класс\Новая папка\60146-8973c-31184749-.jpg"/>
          <p:cNvPicPr/>
          <p:nvPr/>
        </p:nvPicPr>
        <p:blipFill>
          <a:blip r:embed="rId2"/>
          <a:stretch/>
        </p:blipFill>
        <p:spPr>
          <a:xfrm>
            <a:off x="250920" y="1557360"/>
            <a:ext cx="46814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04560" y="1125360"/>
            <a:ext cx="419076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ие птицы – это </a:t>
            </a: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ы, гуси, утки, индейк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собенно много разводят кур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125360"/>
            <a:ext cx="43434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упной птицефабрике в инкубаторы помещают одновременно сотни тысяч яиц. Вентиляторы подают в инкубатор теплый воздух. Специальный механизм время от времени переворачивает яйца, чтобы они равномерно прогревались. Все это необходимо для правильного развития зародыш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4" descr="D:\окр. мир 4 класс\Новая папка\repphoto_3407_3943.jpg"/>
          <p:cNvPicPr/>
          <p:nvPr/>
        </p:nvPicPr>
        <p:blipFill>
          <a:blip r:embed="rId2"/>
          <a:stretch/>
        </p:blipFill>
        <p:spPr>
          <a:xfrm>
            <a:off x="0" y="4076640"/>
            <a:ext cx="4356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Picture 5" descr="D:\окр. мир 4 класс\Новая папка\1267212955.jpg"/>
          <p:cNvPicPr/>
          <p:nvPr/>
        </p:nvPicPr>
        <p:blipFill>
          <a:blip r:embed="rId3"/>
          <a:stretch/>
        </p:blipFill>
        <p:spPr>
          <a:xfrm>
            <a:off x="5076720" y="4076640"/>
            <a:ext cx="406728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4:18:48Z</dcterms:created>
  <dc:creator>Discus</dc:creator>
  <dc:description/>
  <dc:language>en-US</dc:language>
  <cp:lastModifiedBy>Учитель</cp:lastModifiedBy>
  <dcterms:modified xsi:type="dcterms:W3CDTF">2013-05-07T09:49:21Z</dcterms:modified>
  <cp:revision>81</cp:revision>
  <dc:subject/>
  <dc:title>Животноводство в нашем крае</dc:title>
</cp:coreProperties>
</file>