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62BF-1BEA-4B60-A4A6-0FDA157B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01D9-C9CA-40F1-9C4D-62E1570A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C279-E55E-43FE-B42D-33CC4C561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A585-C286-45F4-A583-B8E02E1B0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8A6F-66F1-469C-8C27-808C50DA0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70B9-27CB-420C-8E23-7AB79054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6AFD-F51D-4CCD-8B46-3FCBBE2A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450B-5500-4588-A0D2-F54939DD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29C2-B984-4E19-8981-1BBB0C42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3BDF-500F-48A8-80D6-F5DC0D15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1489-4D0B-40E0-8187-E7439CA0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2C34-DC85-42A4-8B7A-8BED3236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C3DF-CF45-4DAB-A5D0-A757BB10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7062-1996-4601-B0D2-029794F8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C52F-E25F-4994-A389-7D959D27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D2D6-62AB-4B63-A01C-900D55DD4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C824-3B69-4673-B8EC-11FA95115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E049C-4CE7-4945-9526-64B48706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F1B49-CAEF-4E0D-928A-E0164332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50152-B0C8-415F-97F3-A9B0E42F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DAA40-B757-4179-890D-1F7AFA1A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EF6CB-9A72-4788-AA11-91BF1F53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376F-0E39-4C73-820C-A96DFED1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EFB6E-E96A-4033-A042-1992346A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F3FFD-17C4-4CA9-9A2F-E79665DD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B2C6B-8F63-418B-8245-DC493B83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AB1E6-D953-4F9B-B6A4-3A833695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CCF24-BA90-40C7-B232-1F4D9C96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769FC-A69D-4E47-A9DD-C4A81A1CD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A0A86-238E-48DC-9F9D-0E5C3CF5F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3091A-8543-4109-993E-0790246E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02B36-511D-4CAC-9D08-0844DB84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A48E2-1E30-4F70-A7E2-06ED4D14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328F-8BA4-4AE2-9A41-2BAC7400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6FCAA-7026-4DDF-9049-9B5B33B4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BA47A-F47B-4E23-9DC3-0290D3BD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D0924-6637-4841-81AB-03CBA7B8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E2256-8213-4513-B775-B9CE151A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6BEB0-49FB-4EB4-868C-A7EC59B8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FBC00-43B5-4DE2-8BCA-1E01E584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1A0BD-4C57-48DC-8281-47D97450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FB57C-69F9-444F-B35D-31BDF9303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16875-8D70-4659-B5EF-90D8237F5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25E95-C439-484D-A0C9-0E6A1DFF2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3478-FFE9-469C-B9F2-102A70DE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798FA-80C0-4742-BDD7-2A7F70FF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50A6B-ED2B-4EB9-A267-596A4BB6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8EAF9-BF27-4D14-92C3-13A377B8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9CD84-F60E-43C1-BA0E-EF06B8C9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3B633-1DA5-4CC8-B4A2-9826EEA4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CC8AB-FA28-4ADF-94C7-DA5686DB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C145D-AA06-4B0D-AE8F-0FD9C805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2042B-C272-4D42-998A-EB5353F4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D8462-6DEF-410F-9014-40242571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30B19-42DC-42D7-9E1E-92ACAE9E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D3AB-853E-4FDA-8EFB-96613FB4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16895-4348-42CE-9800-1E3862A1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EDCFD-F248-4C4E-9E84-31358694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93EE3-9BF5-4AAC-8997-F5B8B386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80FC9-A0E2-4445-A77C-0AA6A77C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447E3-8058-4616-847C-8F8F6A52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95C98-4521-4CF4-8220-6839498D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064F6-88C9-4E4E-BB03-F13587DF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83CDF-FE33-4358-ACBB-1B3F4218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4F0A4-611A-4D77-B6A9-3157DBD5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8A0C2-9E68-4A61-B50D-DB10E0F1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764A-338A-4D04-882D-C160485A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05787-232B-4D86-B76C-7A8C1C3B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6C29A-C9EA-4B7E-9116-CB3C52EB7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ADB8C-01C0-494B-9EBD-BD358F08A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D4196-DCBD-409A-B95B-F54C5216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EF9A3-9F76-4C84-9BF7-136C2B72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47269-0E80-4705-8994-FF8271F8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5BE63-D56F-47B1-B1DF-F73F4B0C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0D82F-9D66-45F0-8629-96B84731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BFB77-C5ED-4BA2-983F-D0D119C9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4FF42-B7A2-488D-8AD4-81AC17ED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674A-8FFD-4962-BAFC-37EDD278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51DA8-3524-4DB2-A85A-7AC215B5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67680-9FE3-4A5A-8810-92441F52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93B0D-7AE3-4C9E-BA74-7DA78498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8D447-7C20-4B03-9808-C9FD2A8EE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C085E-F4B1-4680-95B0-CA7AAB05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CED5-A3AC-457E-844C-572F6E43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295E-5442-4876-A40D-84FE6EAF768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1F6A-4390-4C9A-9232-008CC148268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1B1C-EFA4-4B9F-A605-79898E2A6AE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20B4-AAE8-489C-8438-365D80E9834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AC07-2D54-4949-9C71-32C8016722A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FA87-4625-4F84-A496-8C278EC1B68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DFAF-041F-4298-8051-FF4DC7E99A4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2080" y="2356920"/>
            <a:ext cx="5997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Tunga"/>
              </a:rPr>
              <a:t>              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Tunga"/>
              </a:rPr>
              <a:t>СОЮЗЫ 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Tunga"/>
              </a:rPr>
              <a:t> СОЧИНИТЕЛЬНЫЕ И                                  ПОДЧИНИТЕЛЬНЫ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3499920" y="5085720"/>
            <a:ext cx="5643720" cy="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Вариант 1           Вариант 2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.Когда мы вернулись в деревню, уже все спал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.Веет теплый ветер, и легкий пар клубится у рек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3.Все время доносился отдаленный рокот, а земля под ногами вздрагивал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4.Наталья Саввишна никак не могла понять, что Карл Иванович уеха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5.На левом фланге, куда звал меня Бурцев, происходило  жаркое дело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.По улицам бродили только куры, да изредка выла собак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.Мы пошли по лосиному следу и вскоре увидели, что дорога эта ведет в болот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3.Ребята поднялись на холм, где находился их лагер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4.Солнце уже зашло, и по низким луговым местам все затопил туман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5.Лесник, у которого мы остановились на ночлег, рассказал нам много нового об этих местах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роверим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. (Когда),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и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а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( что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5.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(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уда)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да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( что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( где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и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(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 которого)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оработаем устн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.Если хочешь много знать, надо мало спат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2. Не учась и лаптя не сплетеш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3. Делу время, а потехе час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4. Неразумного учить, что в бездонную бочку воду лит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5. Не на пользу книги читать, коль одни вершки глотат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6. Корень учения горек, да плод его сладок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Озаглавьте тек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17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1.Вдруг среди шорохов и всплесков послышались тревожащие своей необыочностью            звуки. 2. Было похоже, что где-то совсем близко играла крошечная скрипка.3. Звуки мелодии были так слабы, что порывы ветра иногда обрывали , как паутинку, эту тонкую ниточку загадочной трели. 4. Прислушавшись, я уловил закономерную связь между скрипачом и ветром: стоило ветру немного утихнуть, как скрипка переходила на более низкие ноты, звук становился густым, и в нем отчетливо  улавливался  тембр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Озаглавьте тек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158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5.Когда же ветер усиливался, звуки забирались все выше и выше, они становились острыми, как жало, скрипка плакала и всхлипывала.6.Наконец я установил, что звуки исходили из засыпанной раковины  на гребне песчаного холмика. 7. Я осторожно взял раковину, чтобы посмотреть повнимательнее, но ничего особенного не нашел. 8. Я положил ее на прежнее место и приготовился слушать, но раковина-музыкант молчала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Озаглавьте тек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. Похоже, что она рассердилась за то, что ее бесцеремонно потревожили, и ожидала, пока я снова уйд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Задания к тексту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пределите тип и стиль речи. Докажите свое мнение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.Из предложений 5-8 выпишите слово (слова) с чередующейся гласной в корне слов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2.Из предложения 6 выпишите слово, соответствующее орфограмее правописание      приставок на з-\с-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3.Из предложений 1-4 выпишите действительное причастие настоящего времен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14200"/>
            <a:ext cx="74995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Задания к тексту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143000"/>
            <a:ext cx="7499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4.Выпишите из текста все сочинительные союзы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5.Выпишите из текста все подчинительные союзы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6.Из  предложений 3-5 выпишите сравнени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7.Найдите предложение, соответствующее схеме [   (чтобы) ] и укажите его номер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8.Укажите кол-во грамматических основ в 4 предложении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роверь себ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 Забирались, положи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Исходи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Тревожащ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И, н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Что, как, когда, чтобы, пок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Как паутинку, острым, как жал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 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. 5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95280" y="1773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1.Служебня часть речи, которая служит для связи простых предложений в составе сложного, называется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союз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предлог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частиц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Актуализация знани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асти речи в русском языке делятся на самостоятельные и …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 служебным частям речи относятся…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лужебная часть речи, которая служит для связи однородных членов в предложении, а также простых предложений в составе сложного – это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юзы бывают …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  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2. Укажите неверное утверждени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юзы делятся н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сочинительные и подчинитель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простые и состав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производные и непроизвод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3. Выберите ответ, где все слова в ряду- союзы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как, который, 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за, да, чтоб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потому что, зато, н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4. Укажите вариант ответа, в котором все союзы сочинительны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где, зато, такж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и, однако, ж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что, когда, д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16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5. Укажите предложение, в котором союз и соединяет однородные члены (знаки препинания не расставлены.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16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Мы долго не могли выбраться из леса и нам пришлось задержать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16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На улице сегодня сильный мороз и поездка отменяет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16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Я вернусь и все вам расскаж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1641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6. Укажите сложносочиненное предложени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Мы не могли идти дальше, потому что заблудилис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Никто не знал пути домой и мы долго искали дорог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Наш отряд только вчера узнал, что опасность миновал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7. Укажите сложноподчиненное предложени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Когда над тайгой спустился туман, я подплыл к берег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Воробьи взметнулись стайкой и рассыпались вда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За окном было холодно и вскоре пошел сильный дожд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роверь себ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 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Домашнее зад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дберите из художественной литературы 10 предложений с сочинительными и подчинительными союза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Сравните предлож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бо потемнело, и пошел снег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Я воротился домой, но не в душную комнату, а в сад и с наслаждением ходил по дорожкам, осыпанным снежными хлопья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бо потемнело, потому что пошел снег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         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unga"/>
              </a:rPr>
              <a:t>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СОЮЗ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ЧИНИТЕЛЬНЫЕ и ПОДЧИНИТЕЛЬНЫ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Сочинительные союз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rbel"/>
              </a:rPr>
              <a:t>И, а, но, да, зато, однако, же, то-то, или, либо, не то- не то, тоже, также</a:t>
            </a: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одчинительные союз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13204"/>
                </a:solidFill>
                <a:latin typeface="Corbel"/>
              </a:rPr>
              <a:t>Что, чтобы, потому что, оттого что, по причине того что, где, когда, затем, пока, если, если бы, коль (коли), поэтому, так как, как, словно, точно, будто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  <a:ea typeface="Tunga"/>
              </a:rPr>
              <a:t>Спишите, расставьте недостающие знаки препинания, укажите типы союзов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21120" indent="-1519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По горизонту весь день слоями лежит прозрачная мгла ( ) и в ней пропадают очертания низких берег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1519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 Вечерняя заря начинается  ( ) когда солнце уже заходит за край зем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1519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Река сверкала то голубым ( ) то зеленым свето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1519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Накануне выглянуло солнце ( ) но дороги еще не совсем просох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151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ver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1" dur="indefinite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2" dur="indefinite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indefinite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9" dur="indefinite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" dur="indefinite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4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0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3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  <a:ea typeface="Tunga"/>
              </a:rPr>
              <a:t>Спишите, расставьте недостающие знаки препинания, укажите типы союзов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Сразу за шатким деревянным мостиком начинался подъем в гору ( ) с которой было видно всю окрестност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Слуга вышел и объявил ( ) что лошади готов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" dur="indefinite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2" dur="indefinite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5" dur="indefinite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6" dur="indefinite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Запишем предлож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ебята очень устали, но работа была еще не закончен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[  ]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но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утешественники приблизились к роднику, чтобы напиться вод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[  ]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( чтобы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1T11:13:43Z</dcterms:created>
  <dc:creator>N-Book</dc:creator>
  <dc:description/>
  <dc:language>en-US</dc:language>
  <cp:lastModifiedBy>Windows 7</cp:lastModifiedBy>
  <dcterms:modified xsi:type="dcterms:W3CDTF">2013-05-07T01:36:02Z</dcterms:modified>
  <cp:revision>18</cp:revision>
  <dc:subject/>
  <dc:title>Союзы сочинительные и подчинительные</dc:title>
</cp:coreProperties>
</file>