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EB9-999E-4F8D-8A81-F823BFA7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D1C-0215-4CA4-A343-35C577A0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460-634A-4A40-BAC9-FF37A8B4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1FF-35AF-4207-8AB1-D7FB6136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1927-609A-476D-B51C-A3EC2FFA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6E49-7B91-4533-BFE4-600BD511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BF3F-3049-44BD-8E46-A022D5FF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A360-6356-4C85-A164-4712F956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FBA8-A8F2-4B45-9DBD-757ACB43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73F9-82C4-4938-ACB1-2A27BAB9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41DD-2CD8-43E9-9D9B-0DF76D0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F89-B625-4E7F-8AC8-0A3332A2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A091-11CC-4E0E-8D92-194A64CB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C153-A5CE-4603-99D1-51810DE5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E89B-A545-4EE9-80FA-BA8F84A2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DE09-4958-4031-BB68-06FA6990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AB9B-4087-44AF-BF29-0EF55FFC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16CC-31E7-48CF-9B4F-3C0FFDCC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2E60-4CB7-4D70-A047-A83DE1C1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748F-278C-41C3-94A7-D00E46F4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400B6-8233-4ECB-93F1-A7877913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5179-4E86-473E-B4CA-A1C9F60B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FBF-ECA1-4236-8A1A-5E6857F0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FE202-8B15-49B4-B371-A2751C33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FA91-70F5-4D0C-88FC-266AE9C8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0DE6-C607-4DFB-88BB-72313E77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60AF-594C-471F-8D22-A21D87A0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1567-625B-4057-9C77-D679BE75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2ABD-BE36-4312-8CE8-9B5A779A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6AF4-7086-4C4A-9211-9DEAE7AA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097B0-66C2-4976-9F09-2A5FBF90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65430-4C07-490D-A7B7-C02BAAC4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57745-497F-4F00-83B5-466C9B11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30F-88C1-4017-A4E9-34582990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C817-28EB-45AD-A723-41FBE167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076B-C862-4264-9024-93C23DA7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904DE-CB77-4CB9-B50E-C7CDB7EB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25485-EDBE-446A-95C4-A65243FB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6D0A-ABBB-4F55-A32B-9645FFEA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9A57-8738-4042-B5A1-1DA772B4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40742-6385-4457-A67E-DCF59E22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54E06-90AC-4E77-8D6E-CF8CA56F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CCFBC-74D3-444C-BB48-92582B4D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4CCD3-ADB4-45CC-A1E9-106E3219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45C-F3AF-4A33-B2A8-BD4D3E36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3A0D0-AE3E-4F19-8EC4-BA4AC80D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A791B-19B7-4FFE-AA5C-031DDFD7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02563-B5DE-4957-8064-6C329FBC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17DE7-BD3F-4220-B6A5-8A1761B3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4360-7996-4C26-B8BB-7E81627B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BA27E-4E63-49C4-B49E-23CAF8B5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74166-CA5F-4E82-9FD6-CB4216CB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AD871-8486-4DD1-BB58-453A1EBA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954A5-79E9-4E80-9CF5-2F12512F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EB84-2B5E-4952-AF75-85446FC4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668-6BFA-4219-9C4F-088C8E80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DD16D-3DDC-4DEA-A137-0F216E9B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47F6D-41D3-44EE-A230-61320162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73F8A-A07E-4C54-B7B7-ED373CBE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78262-0FD7-4E91-9300-D8F7957C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2A6E2-134A-47FB-BDE2-F5292C20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CB815-7738-4C64-B2E6-288D81B6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EC729-DA1F-4F71-A317-FC4CDC9D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ECADB-45C4-4A89-9B5E-493A5AF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E42E2-8EE2-48B4-8EB4-A3C3640E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E49FF-E2DA-46A6-87E0-6BF518C9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CD3-E6F9-495A-B528-164E33B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28F7-DE80-4EF2-A162-3A4000AA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4720-0C63-4475-BF8B-1CFA0A80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6E9C5-0064-460C-BAEF-666CA464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AD587-6247-4FC7-A717-1B60FAB6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6C66F-3F11-45E2-AC29-A8AB3228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714AE-53A3-4251-BABB-11142F63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97623-60CC-4EAC-9222-CEF3EB5D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CAAFA-E341-4AE8-A3A6-A204F824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36CB2-3E4F-41C7-872E-8030FEAB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ADCD9-D34A-439A-B438-F2D10C77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837-ACD9-422E-BF30-8C918808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7FA9D-463F-4E37-A5DD-49B5693A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EDB9B-DE06-4B11-814F-97412817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C9A6-B967-4F32-AF0F-8B813F79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B3A89-E0BC-4AB3-A09D-24B95A86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78506-A1F0-47EE-9088-5FD37869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9D1-8418-461B-AB80-F9E5327F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1F9D-0DAD-4A3D-8DEE-48515261CA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F4A4-8921-4C0F-AB2F-4665C024365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F32E-BAFB-4F20-BA7E-6C549BC02B5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316E-00B7-4F52-95D2-B914D37DA72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6F9B-4102-42E5-ADC2-8D5A48308D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8291-2FD6-4B68-853F-75ACEFDFF4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5025-2515-4A10-8545-00C1C089A9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2080" y="2356920"/>
            <a:ext cx="5997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СОЮЗЫ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СОЧИНИТЕЛЬНЫЕ И                                  ПОДЧИНИТЕЛЬ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499920" y="5085720"/>
            <a:ext cx="564372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Вариант 1           Вариант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Когда мы вернулись в деревню, уже все спа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Веет теплый ветер, и легкий пар клубится у ре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Все время доносился отдаленный рокот, а земля под ногами вздрагива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Наталья Саввишна никак не могла понять, что Карл Иванович уех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На левом фланге, куда звал меня Бурцев, происходило  жаркое дел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По улицам бродили только куры, да изредка выла соба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Мы пошли по лосиному следу и вскоре увидели, что дорога эта ведет в боло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Ребята поднялись на холм, где находился их лаге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Солнце уже зашло, и по низким луговым местам все затопил тума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Лесник, у которого мы остановились на ночлег, рассказал нам много нового об этих мес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(Когда)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да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где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которого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работаем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Если хочешь много знать, надо мало сп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 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Делу время, а потехе час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еразумного учить, что в бездонную бочку воду ли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Не на пользу книги читать, коль одни вершки глот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Корень учения горек, да плод его слад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17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Вдруг среди шорохов и всплесков послышались тревожащие своей необыочностью            звуки. 2. Было похоже, что где-то совсем близко играла крошечная скрипка.3. Звуки мелодии были так слабы, что порывы ветра иногда обрывали , как паутинку, эту тонкую ниточку загадочной трели. 4. Прислушавшись, я уловил закономерную связь между скрипачом и ветром: стоило ветру немного утихнуть, как скрипка переходила на более низкие ноты, звук становился густым, и в нем отчетливо  улавливался  темб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Когда же ветер усиливался, звуки забирались все выше и выше, они становились острыми, как жало, скрипка плакала и всхлипывала.6.Наконец я установил, что звуки исходили из засыпанной раковины  на гребне песчаного холмика. 7. Я осторожно взял раковину, чтобы посмотреть повнимательнее, но ничего особенного не нашел. 8. Я положил ее на прежнее место и приготовился слушать, но раковина-музыкант молчал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охоже, что она рассердилась за то, что ее бесцеремонно потревожили, и ожидала, пока я снова уй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ите тип и стиль речи. Докажите свое мн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Из предложений 5-8 выпишите слово (слова) с чередующейся гласной в корне сло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Из предложения 6 выпишите слово, соответствующее орфограмее правописание      приставок на з-\с-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Из предложений 1-4 выпишите действительное причастие настоящего време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Выпишите из текста все со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Выпишите из текста все под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Из  предложений 3-5 выпишите сравн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Найдите предложение, соответствующее схеме [   (чтобы) ] и укажите его номер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Укажите кол-во грамматических основ в 4 предложени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Забирались, полож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ход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Тревожащ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И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Что, как, когда, чтобы, п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Как паутинку, острым, как жа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.Служебня часть речи, которая служит для связи простых предложений в составе сложного, называ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ю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ед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аст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Актуализация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и речи в русском языке делятся на самостоятельные и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служебным частям речи относятся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ебная часть речи, которая служит для связи однородных членов в предложении, а также простых предложений в составе сложного – это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бывают 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Укажите неверное утвержд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чинительные и подчини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остые и соста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роизводные и непроизв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. Выберите ответ, где все слова в ряду- союз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ак, который, 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за, да, что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отому что, зато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. Укажите вариант ответа, в котором все союзы сочинитель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где, зато, так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и, однако, 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то, когда, 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. Укажите предложение, в котором союз и соединяет однородные члены 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долго не могли выбраться из леса и нам пришлось задерж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а улице сегодня сильный мороз и поездка отменя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Я вернусь и все вам расскаж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. Укажите сложносо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не могли идти дальше, потому что заблудили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икто не знал пути домой и мы долго искали доро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Наш отряд только вчера узнал, что опасность минова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7. Укажите сложнопод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огда над тайгой спустился туман, я подплыл к бере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Воробьи взметнулись стайкой и рассыпались вда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За окном было холодно и вскоре пошел сильный дож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берите из художественной литературы 10 предложений с сочинительными и подчинительными союз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равните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и пошел сне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воротился домой, но не в душную комнату, а в сад и с наслаждением ходил по дорожкам, осыпанным снежными хлоп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потому что пошел с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unga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ЧИНИТЕЛЬНЫЕ и ПОДЧИНИТЕ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И, а, но, да, зато, однако, же, то-то, или, либо, не то- не то, тоже, также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д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3204"/>
                </a:solidFill>
                <a:latin typeface="Corbel"/>
              </a:rPr>
              <a:t>Что, чтобы, потому что, оттого что, по причине того что, где, когда, затем, пока, если, если бы, коль (коли), поэтому, так как, как, словно, точно, будт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По горизонту весь день слоями лежит прозрачная мгла ( ) и в ней пропадают очертания низких бер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Вечерняя заря начинается  ( ) когда солнце уже заходит за край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ка сверкала то голубым ( ) то зеленым св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акануне выглянуло солнце ( ) но дороги еще не совсем просох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разу за шатким деревянным мостиком начинался подъем в гору ( ) с которой было видно всю окрест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луга вышел и объявил ( ) что лошади готов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пишем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ята очень устали, но работа была еще не законче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ешественники приблизились к роднику, чтобы напиться в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( чтоб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1:13:43Z</dcterms:created>
  <dc:creator>N-Book</dc:creator>
  <dc:description/>
  <dc:language>en-US</dc:language>
  <cp:lastModifiedBy>Windows 7</cp:lastModifiedBy>
  <dcterms:modified xsi:type="dcterms:W3CDTF">2013-05-07T01:36:02Z</dcterms:modified>
  <cp:revision>18</cp:revision>
  <dc:subject/>
  <dc:title>Союзы сочинительные и подчинительные</dc:title>
</cp:coreProperties>
</file>